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640303"/>
        <c:axId val="15286041"/>
      </c:barChart>
      <c:catAx>
        <c:axId val="326403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286041"/>
        <c:crosses val="autoZero"/>
        <c:auto val="1"/>
        <c:lblAlgn val="ctr"/>
        <c:lblOffset val="100"/>
        <c:noMultiLvlLbl val="0"/>
      </c:catAx>
      <c:valAx>
        <c:axId val="152860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6403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5640-9341-4510-9625-FA0BCAD90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0F0B-A2B1-406B-B3A9-9730BC15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FCD6-F005-4D44-A057-A0C5593B8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08BF-538B-422B-AB1E-04F86C875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9152-1757-4044-B11C-E4ACA7E3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51FA-16BB-4A19-A9B8-DC5B5CC0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9D82-EFB4-4F0B-8F40-B3D6ADB8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056E-8682-4686-975C-55AF965F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2C85-1593-44EE-8B7B-4AE7C09C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F0CB-7703-4B62-B4F8-68AD3770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C188-BDF7-4A38-9E95-CC3AA148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3AF0-3F84-4A70-B840-FDE06F4D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3FD973-DD4F-4920-983B-0793404D3E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