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68291"/>
        <c:axId val="41372335"/>
      </c:barChart>
      <c:catAx>
        <c:axId val="93768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72335"/>
        <c:crosses val="autoZero"/>
        <c:auto val="1"/>
        <c:lblAlgn val="ctr"/>
        <c:lblOffset val="100"/>
        <c:noMultiLvlLbl val="0"/>
      </c:catAx>
      <c:valAx>
        <c:axId val="41372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68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789-32CD-427B-9EF1-8093FE7D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24B-37DB-4266-B986-B461893B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09D-32B1-49D6-ADD2-D5AA377B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58E-C6E9-4CE9-B7F9-4F625DCD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285-E937-41CF-BD6E-AC0717D0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EA2-D88D-48AD-9AAF-8341E209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667-00C4-4A90-B9FF-2FF639C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A0B-AB61-4BE1-8090-4AAAE721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68B-C03E-4F8D-B7FE-A99685AE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C68-D074-4622-A0F5-FC6FB10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C42-078A-4CF6-97C3-0B73A5B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F96-D5BE-42FA-89FC-0BF012D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B4DB9-5D90-4987-B6F5-928F90F07F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