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265215"/>
        <c:axId val="21106418"/>
      </c:barChart>
      <c:catAx>
        <c:axId val="232652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06418"/>
        <c:crosses val="autoZero"/>
        <c:auto val="1"/>
        <c:lblAlgn val="ctr"/>
        <c:lblOffset val="100"/>
        <c:noMultiLvlLbl val="0"/>
      </c:catAx>
      <c:valAx>
        <c:axId val="211064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652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CA4F-F5BE-482C-9520-3CE2760D5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7B5C-CAF4-42FB-8B26-F423A00D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AB34-BFAD-4F65-AAC8-000274CCC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EAF2-DEF2-485E-8E56-275E0C2B7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285F-BBBB-40A4-8CBE-DC7E3362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3CB6-514B-4E37-965B-2C54F53F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854B-003B-46A7-A68F-D257E9C2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4676-A6D8-43A1-88B7-4CD5083F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F194-1D64-4FEC-BDB0-ED897548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7F98-7866-4E8E-9983-5E7D9091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C4A1-20F0-41BA-9DE5-9F547FE7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6A1E-F786-499A-A221-A66E0F23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3FC89-BC21-4B2C-B03A-03AE7982E1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