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12469"/>
        <c:axId val="64249200"/>
      </c:barChart>
      <c:catAx>
        <c:axId val="47212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49200"/>
        <c:crosses val="autoZero"/>
        <c:auto val="1"/>
        <c:lblAlgn val="ctr"/>
        <c:lblOffset val="100"/>
        <c:noMultiLvlLbl val="0"/>
      </c:catAx>
      <c:valAx>
        <c:axId val="64249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12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F2C-027D-4487-8716-32B95F0E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D9C-3E6D-4E8F-A2E4-7BD01948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B9B-357E-4244-B1FB-EEF40A11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F82-E466-4EE7-ADAC-D575E9D1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42F-CC28-4CA3-AABD-39F905D8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884-F108-459C-ADC7-1BF70643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9BE-EE94-4941-97C8-9E968FE0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9A3-F386-49F0-85D8-37BD7A48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D24-2DBC-40EA-A35A-1C088B05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1F2-E3EB-443D-A2DA-EF97220D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4AA-E42B-4593-BBF3-2E1A8BB8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68E-BAF5-4665-A836-8B4A7C6D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8845F-9744-433B-95D9-5B797B8952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