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56001"/>
        <c:axId val="99372442"/>
      </c:barChart>
      <c:catAx>
        <c:axId val="99056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72442"/>
        <c:crosses val="autoZero"/>
        <c:auto val="1"/>
        <c:lblAlgn val="ctr"/>
        <c:lblOffset val="100"/>
        <c:noMultiLvlLbl val="0"/>
      </c:catAx>
      <c:valAx>
        <c:axId val="99372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6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8C6-E6F6-4444-BDD3-3ADBD1FC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D2B-FE32-4D9E-A358-AA9E9774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841-831B-4C09-A024-8DF85607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03A-63F0-4C4E-A0D2-9A0DEC3C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255-F616-4890-B5E1-04E9632E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430-9597-42A5-90B9-FF2E95F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778-71A6-4462-9FBE-59AAE9B3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101-2299-406B-904B-1394F74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086-791B-49AD-829E-97BA58E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D1C-FA55-4B8D-AF4F-CBB9ACF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919-A526-42CF-9E9B-2F946C8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F9-CF66-4101-9F61-53C8FECF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B433-11E0-4436-8949-2E41E6217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