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997968"/>
        <c:axId val="75468557"/>
      </c:barChart>
      <c:catAx>
        <c:axId val="799979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68557"/>
        <c:crosses val="autoZero"/>
        <c:auto val="1"/>
        <c:lblAlgn val="ctr"/>
        <c:lblOffset val="100"/>
        <c:noMultiLvlLbl val="0"/>
      </c:catAx>
      <c:valAx>
        <c:axId val="754685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979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A54D-CFA7-4ABC-B419-D9029DCF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3021-301B-45AA-B813-A0473B2C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51E5-AA86-48B4-94FF-407F5B70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02D-79A9-49F3-BC0F-8CFAEEDF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6EA4-BAFC-4112-8BCB-A82B6866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F510-13EF-4944-A634-C541D53E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D6A-C14F-427C-BA9D-8EF4E670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8EBD-33E6-4DFD-9114-5C551270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75D4-0BE8-40DD-87B5-7967B152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03E3-8949-4D0E-A14B-7A5421F9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1D5-5D30-4B61-92EB-D4A4CC74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6B0F-841E-4922-BB68-78E635DB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6BCA7-A099-4137-8B72-171CA0B710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